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19450-D28D-4524-9554-248B4BB347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948E3-A1D9-4C84-9273-7E76F29F07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374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8800" y="3879720"/>
            <a:ext cx="8374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0560" y="132408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51960" y="132408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8800" y="387972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0560" y="387972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51960" y="387972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8800" y="162000"/>
            <a:ext cx="829800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8374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008000"/>
            <a:ext cx="91440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6520" y="6470640"/>
            <a:ext cx="2984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  <a:ea typeface="Arial"/>
              </a:rPr>
              <a:t>©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 2003 Pearson Education Canada Inc.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924680" y="6478560"/>
            <a:ext cx="971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Slide 14-</a:t>
            </a:r>
            <a:fld id="{3CE30EDD-3E8B-49A4-B8D0-3412937F85F8}" type="slidenum">
              <a:rPr b="0" lang="en-US" sz="1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7280" y="1825560"/>
            <a:ext cx="7543800" cy="322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14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st Allocati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st Alloc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80694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 allocation is the process of assigning indirect costs to cost objec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 algn="ctr">
              <a:spcBef>
                <a:spcPts val="2999"/>
              </a:spcBef>
              <a:buNone/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Four Purposes of Cost Allocat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1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o provide information for economic decisio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o motivate managers and employe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3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o justify costs or compute reimbursemen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4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o measure income and assets for reporting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o external parti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55308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529 - 530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280" y="162000"/>
            <a:ext cx="87552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riteria for Guiding Cost Allocation Decision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79930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ause and effec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ocate based on the variable or variables that cause cost to be incurr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enefits receiv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ocate costs among the beneficiaries in proportion to the benefits each receiv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airness or equit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ocate costs in such a manner as to be “fair” or “reasonable” for both parti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bility to bea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ocate costs based on who can best absorb them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530 - 532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thods of Cost Alloc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9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ngle rat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-3358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ocate costs to cost objects using a single rat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-3358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ate = manufacturing overhead costs / labour hour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ual-rat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-3358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parate costs into cost variable and fixed cost pool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-3358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ocate fixed costs as lump sums based on long-term usag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-3358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ocate variable costs based on a single variable cost rat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dgeted versus actual allocatio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-3358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ost firms allocate at budgeted rates based on actual usag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536 - 539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llocating Support Department Cos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8440" y="1142640"/>
            <a:ext cx="84502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rect approach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ocate support costs directly to operating departmen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tep-down approach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cognize some of the work support departments do for each othe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ocate support costs to other support departments and operating departments in a pre-determined orde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ciprocal approach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cognize all of the work support departments do for each othe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ocate support costs among all departments using their servic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294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539 - 545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rect Approach to Cost Alloc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324080"/>
            <a:ext cx="3192480" cy="50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Support Departments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257800" y="1324080"/>
            <a:ext cx="36576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Production Departments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410080" y="2057400"/>
            <a:ext cx="3353040" cy="1647720"/>
          </a:xfrm>
          <a:prstGeom prst="rect">
            <a:avLst/>
          </a:prstGeom>
          <a:solidFill>
            <a:srgbClr val="0099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chinery Departmen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Direct costs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400,000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410080" y="4448160"/>
            <a:ext cx="3353040" cy="1647720"/>
          </a:xfrm>
          <a:prstGeom prst="rect">
            <a:avLst/>
          </a:prstGeom>
          <a:solidFill>
            <a:srgbClr val="0099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ssembly Departmen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Direct costs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200,000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3520" y="2009880"/>
            <a:ext cx="2209680" cy="1571400"/>
          </a:xfrm>
          <a:prstGeom prst="rect">
            <a:avLst/>
          </a:prstGeom>
          <a:solidFill>
            <a:srgbClr val="ff00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lant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inten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Direct cost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600,000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4524480"/>
            <a:ext cx="2209680" cy="1571400"/>
          </a:xfrm>
          <a:prstGeom prst="rect">
            <a:avLst/>
          </a:prstGeom>
          <a:solidFill>
            <a:srgbClr val="ff00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formation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ystem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Direct cost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116,000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580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541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2743200" y="2590920"/>
            <a:ext cx="2666880" cy="2361960"/>
            <a:chOff x="2743200" y="2590920"/>
            <a:chExt cx="2666880" cy="2361960"/>
          </a:xfrm>
        </p:grpSpPr>
        <p:sp>
          <p:nvSpPr>
            <p:cNvPr id="70" name=""/>
            <p:cNvSpPr/>
            <p:nvPr/>
          </p:nvSpPr>
          <p:spPr>
            <a:xfrm>
              <a:off x="2743200" y="2590920"/>
              <a:ext cx="266688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743200" y="3048120"/>
              <a:ext cx="2666880" cy="19047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971800" y="2619360"/>
              <a:ext cx="1752480" cy="80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87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225,000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375,000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2743200" y="3200400"/>
            <a:ext cx="2666880" cy="2362320"/>
            <a:chOff x="2743200" y="3200400"/>
            <a:chExt cx="2666880" cy="2362320"/>
          </a:xfrm>
        </p:grpSpPr>
        <p:sp>
          <p:nvSpPr>
            <p:cNvPr id="74" name=""/>
            <p:cNvSpPr/>
            <p:nvPr/>
          </p:nvSpPr>
          <p:spPr>
            <a:xfrm>
              <a:off x="2743200" y="5562720"/>
              <a:ext cx="266688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2743200" y="3200400"/>
              <a:ext cx="2590920" cy="1828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95480" y="4676760"/>
              <a:ext cx="1752840" cy="80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87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103,111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12,889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5410080" y="2009880"/>
            <a:ext cx="3733920" cy="4057560"/>
            <a:chOff x="5410080" y="2009880"/>
            <a:chExt cx="3733920" cy="4057560"/>
          </a:xfrm>
        </p:grpSpPr>
        <p:sp>
          <p:nvSpPr>
            <p:cNvPr id="78" name=""/>
            <p:cNvSpPr/>
            <p:nvPr/>
          </p:nvSpPr>
          <p:spPr>
            <a:xfrm>
              <a:off x="5410080" y="2009880"/>
              <a:ext cx="3733920" cy="164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Allocated costs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328,111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Total costs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728,111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410080" y="4419720"/>
              <a:ext cx="3733920" cy="164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Allocated costs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387,889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Total costs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587,889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696080" y="3200400"/>
              <a:ext cx="83844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96080" y="5638680"/>
              <a:ext cx="83844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5410080" y="4448160"/>
            <a:ext cx="3353040" cy="1647720"/>
          </a:xfrm>
          <a:prstGeom prst="rect">
            <a:avLst/>
          </a:prstGeom>
          <a:solidFill>
            <a:srgbClr val="0099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ssembly Departmen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Direct costs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200,000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410080" y="2009880"/>
            <a:ext cx="3353040" cy="1647720"/>
          </a:xfrm>
          <a:prstGeom prst="rect">
            <a:avLst/>
          </a:prstGeom>
          <a:solidFill>
            <a:srgbClr val="0099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chinery Departmen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Direct costs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400,000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ep-down Approach to Cost Alloc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6320" y="1324080"/>
            <a:ext cx="3192480" cy="50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Support Departments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257800" y="1324080"/>
            <a:ext cx="36576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Production Departments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33520" y="2009880"/>
            <a:ext cx="2209680" cy="1571400"/>
          </a:xfrm>
          <a:prstGeom prst="rect">
            <a:avLst/>
          </a:prstGeom>
          <a:solidFill>
            <a:srgbClr val="ff00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lant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inten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Direct cost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600,000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33520" y="4114800"/>
            <a:ext cx="2209680" cy="2133720"/>
          </a:xfrm>
          <a:prstGeom prst="rect">
            <a:avLst/>
          </a:prstGeom>
          <a:solidFill>
            <a:srgbClr val="ff00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ctr" pos="123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ctr" pos="123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formation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ctr" pos="123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ystem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ctr" pos="123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Direct cost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ctr" pos="123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116,000  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541 - 543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533520" y="2590920"/>
            <a:ext cx="4876560" cy="3657600"/>
            <a:chOff x="533520" y="2590920"/>
            <a:chExt cx="4876560" cy="3657600"/>
          </a:xfrm>
        </p:grpSpPr>
        <p:sp>
          <p:nvSpPr>
            <p:cNvPr id="91" name=""/>
            <p:cNvSpPr/>
            <p:nvPr/>
          </p:nvSpPr>
          <p:spPr>
            <a:xfrm>
              <a:off x="533520" y="4114800"/>
              <a:ext cx="2209680" cy="213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                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Allocated costs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120,000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743200" y="2590920"/>
              <a:ext cx="266688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43200" y="3048120"/>
              <a:ext cx="2666880" cy="19047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971800" y="2619360"/>
              <a:ext cx="1752480" cy="80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87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180,000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300,000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8280" y="3581280"/>
              <a:ext cx="0" cy="533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133720" y="3657600"/>
              <a:ext cx="175248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9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120,000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2743200" y="3200400"/>
            <a:ext cx="2666880" cy="2362320"/>
            <a:chOff x="2743200" y="3200400"/>
            <a:chExt cx="2666880" cy="2362320"/>
          </a:xfrm>
        </p:grpSpPr>
        <p:sp>
          <p:nvSpPr>
            <p:cNvPr id="98" name=""/>
            <p:cNvSpPr/>
            <p:nvPr/>
          </p:nvSpPr>
          <p:spPr>
            <a:xfrm>
              <a:off x="2743200" y="5562720"/>
              <a:ext cx="266688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V="1">
              <a:off x="2743200" y="3200400"/>
              <a:ext cx="2590920" cy="1828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895480" y="4676760"/>
              <a:ext cx="1752840" cy="80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87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209,778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26,222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410080" y="1962000"/>
            <a:ext cx="3505320" cy="4133880"/>
            <a:chOff x="5410080" y="1962000"/>
            <a:chExt cx="3505320" cy="4133880"/>
          </a:xfrm>
        </p:grpSpPr>
        <p:sp>
          <p:nvSpPr>
            <p:cNvPr id="102" name=""/>
            <p:cNvSpPr/>
            <p:nvPr/>
          </p:nvSpPr>
          <p:spPr>
            <a:xfrm>
              <a:off x="5410080" y="4448160"/>
              <a:ext cx="3505320" cy="164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97000"/>
            </a:bodyPr>
            <a:p>
              <a:pPr marL="332640" indent="-332640" algn="ctr">
                <a:lnSpc>
                  <a:spcPct val="100000"/>
                </a:lnSpc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32640" indent="-332640" algn="ctr">
                <a:lnSpc>
                  <a:spcPct val="100000"/>
                </a:lnSpc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32640" indent="-332640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32640" indent="-33264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Allocated costs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326,222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32640" indent="-33264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Total costs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526,222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696080" y="3152880"/>
              <a:ext cx="83844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696080" y="5667480"/>
              <a:ext cx="83844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410080" y="1962000"/>
              <a:ext cx="3505320" cy="164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97000"/>
            </a:bodyPr>
            <a:p>
              <a:pPr marL="332640" indent="-332640" algn="ctr">
                <a:lnSpc>
                  <a:spcPct val="100000"/>
                </a:lnSpc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32640" indent="-332640" algn="ctr">
                <a:lnSpc>
                  <a:spcPct val="100000"/>
                </a:lnSpc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32640" indent="-332640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32640" indent="-33264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Allocated costs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389,778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32640" indent="-33264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Total costs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789,778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410080" y="2085840"/>
            <a:ext cx="3353040" cy="1648080"/>
          </a:xfrm>
          <a:prstGeom prst="rect">
            <a:avLst/>
          </a:prstGeom>
          <a:solidFill>
            <a:srgbClr val="0099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chinery Departmen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Direct costs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400,000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410080" y="4448160"/>
            <a:ext cx="3353040" cy="1647720"/>
          </a:xfrm>
          <a:prstGeom prst="rect">
            <a:avLst/>
          </a:prstGeom>
          <a:solidFill>
            <a:srgbClr val="0099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ssembly Departmen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Direct costs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200,000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ciprocal Approach to Cost Alloc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6320" y="1324080"/>
            <a:ext cx="3192480" cy="50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Support Departments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57800" y="1324080"/>
            <a:ext cx="36576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Production Departments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8600" y="1857240"/>
            <a:ext cx="2514600" cy="1571760"/>
          </a:xfrm>
          <a:prstGeom prst="rect">
            <a:avLst/>
          </a:prstGeom>
          <a:solidFill>
            <a:srgbClr val="ff00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lant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inten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Direct costs   $600,000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8600" y="4343400"/>
            <a:ext cx="2514600" cy="1905120"/>
          </a:xfrm>
          <a:prstGeom prst="rect">
            <a:avLst/>
          </a:prstGeom>
          <a:solidFill>
            <a:srgbClr val="ff00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formation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ystem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Direct costs  $116,000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542 - 544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743200" y="2590920"/>
            <a:ext cx="2666880" cy="2361960"/>
            <a:chOff x="2743200" y="2590920"/>
            <a:chExt cx="2666880" cy="2361960"/>
          </a:xfrm>
        </p:grpSpPr>
        <p:sp>
          <p:nvSpPr>
            <p:cNvPr id="115" name=""/>
            <p:cNvSpPr/>
            <p:nvPr/>
          </p:nvSpPr>
          <p:spPr>
            <a:xfrm>
              <a:off x="2743200" y="2590920"/>
              <a:ext cx="266688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743200" y="3048120"/>
              <a:ext cx="2666880" cy="19047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971800" y="2619360"/>
              <a:ext cx="1752480" cy="80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87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187,225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312,041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2743200" y="3200400"/>
            <a:ext cx="2666880" cy="2362320"/>
            <a:chOff x="2743200" y="3200400"/>
            <a:chExt cx="2666880" cy="2362320"/>
          </a:xfrm>
        </p:grpSpPr>
        <p:sp>
          <p:nvSpPr>
            <p:cNvPr id="119" name=""/>
            <p:cNvSpPr/>
            <p:nvPr/>
          </p:nvSpPr>
          <p:spPr>
            <a:xfrm>
              <a:off x="2743200" y="5562720"/>
              <a:ext cx="266688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2743200" y="3200400"/>
              <a:ext cx="2590920" cy="1828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895480" y="4676760"/>
              <a:ext cx="1752840" cy="80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87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192,652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24,082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76320" y="1828800"/>
            <a:ext cx="3809880" cy="4419720"/>
            <a:chOff x="76320" y="1828800"/>
            <a:chExt cx="3809880" cy="4419720"/>
          </a:xfrm>
        </p:grpSpPr>
        <p:sp>
          <p:nvSpPr>
            <p:cNvPr id="123" name=""/>
            <p:cNvSpPr/>
            <p:nvPr/>
          </p:nvSpPr>
          <p:spPr>
            <a:xfrm>
              <a:off x="2438280" y="3429000"/>
              <a:ext cx="0" cy="9144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133720" y="3762360"/>
              <a:ext cx="175248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9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124,816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09480" y="3429000"/>
              <a:ext cx="0" cy="9144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28600" y="3762360"/>
              <a:ext cx="175248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9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24,082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6320" y="1828800"/>
              <a:ext cx="2819160" cy="157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Allocated costs $24,082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6320" y="4343400"/>
              <a:ext cx="2666880" cy="190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+ Allocated costs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$124,816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5410080" y="2009880"/>
            <a:ext cx="3733920" cy="4086000"/>
            <a:chOff x="5410080" y="2009880"/>
            <a:chExt cx="3733920" cy="4086000"/>
          </a:xfrm>
        </p:grpSpPr>
        <p:sp>
          <p:nvSpPr>
            <p:cNvPr id="130" name=""/>
            <p:cNvSpPr/>
            <p:nvPr/>
          </p:nvSpPr>
          <p:spPr>
            <a:xfrm>
              <a:off x="5410080" y="2009880"/>
              <a:ext cx="3733920" cy="164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Allocated costs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379,877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Total costs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779,877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410080" y="4448160"/>
              <a:ext cx="3733920" cy="164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Allocated costs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336,123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Total costs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536,123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620120" y="5638680"/>
              <a:ext cx="91440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620120" y="3200400"/>
              <a:ext cx="91440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llocation of Common Cos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545 - 547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mmon costs are costs of operating a facility, operation, activity area, or like cost object that is shared by two or more user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tand-Alone Cost Allocation Metho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ocate common costs on the basis of each user’s percentage of the total of the individual stand-alone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cremental Cost Allocation Metho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ocate common costs in order beginning with the primary user and then proceeding to secondary (incremental) user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4T01:31:04Z</dcterms:created>
  <dc:creator>User</dc:creator>
  <dc:description/>
  <dc:language>en-US</dc:language>
  <cp:lastModifiedBy>John Moore</cp:lastModifiedBy>
  <cp:lastPrinted>1999-06-04T23:13:26Z</cp:lastPrinted>
  <dcterms:modified xsi:type="dcterms:W3CDTF">2003-03-22T13:19:23Z</dcterms:modified>
  <cp:revision>16</cp:revision>
  <dc:subject/>
  <dc:title>Cost Allocation</dc:title>
</cp:coreProperties>
</file>